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921C-7BAD-49A8-AB98-A63ADD2A058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3C47-18B2-4EEE-B50B-C34F4AE3DC4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DE4-C942-4E52-9B68-9CC8D53F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D40-01AB-492A-A86C-79A73497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A9E-C771-4C75-8E46-E8B75A9D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22F-34D6-46F5-AF39-8D6DCF42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25AF-D22D-4061-9F71-B200C7A5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C77C-0221-42A1-BB96-DEB5E4CF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0BA9-F4D6-4D33-A308-36CE63B0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7B75-F531-4A04-9278-6D36B430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21BF-733A-4298-AEEC-AB0E7EA8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A718-13A6-4F65-89FD-22DA054D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E1A7-79F7-495D-9DBA-319F0E87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4D0-C6A5-4148-B70E-432BF1AF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A577-7BD4-4230-B2A9-74ED5507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54D7-EED8-4FE6-B596-DE93A6A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DCEA-DDF7-41DB-A2A4-48B5D437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B832-9AAF-4D22-808E-52FDD8C9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879D-09DC-421C-8535-170B5FE6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004-75E3-4EF7-BA1D-ADBCBCCF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466-9127-4EF2-BC76-C23A46E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210-3674-4F29-8B47-22CA9DA1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4B3-766F-4D3B-BC3F-02CE193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CE7-A612-4BC3-A631-D17ECAF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983-C9A4-4338-9946-BA3C136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D52-1AF8-4BD7-BF66-B4EDED5C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6F85-C40B-408F-89C6-26A56A0EFA2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ACC7-7D92-4EEE-B881-2C26E7B3AEC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0" descr="Logo NSRF"/>
          <p:cNvPicPr/>
          <p:nvPr/>
        </p:nvPicPr>
        <p:blipFill>
          <a:blip r:embed="rId1"/>
          <a:stretch/>
        </p:blipFill>
        <p:spPr>
          <a:xfrm>
            <a:off x="0" y="108900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2"/>
          <p:cNvSpPr/>
          <p:nvPr/>
        </p:nvSpPr>
        <p:spPr>
          <a:xfrm>
            <a:off x="4932360" y="2205000"/>
            <a:ext cx="421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5580000" y="47530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4932360" y="1644480"/>
            <a:ext cx="42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пция относно цели, приоритети и мер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ластта на административния капац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техническата помощ, които да бъдат финансирани през програмен пери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4-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651640" y="5662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Ирена Първан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иректор на дирекция ОПТ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Функционираща система за управление на средствата от ЕС в съответствие с принципите на доброто уп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Мерки, свързани с осигуряване на ефективно, ефикасно и регулярно изпълнение на политиките свързани с усвояване на средствата от СКФ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държане, развитие, оптимизиране и гарантиране на устойчивост на системата за управление, координация, мониторинг, контрол и одит на средствата от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крепа за изпълнение на стратегически дейности на системно ниво, свързани с използване на средствата от СКФ на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игуряване на информация и публичност за средствата от ОС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Мерки, свързани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тие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усъвършенстване на информационните системи за управление на средствата от Е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рки за поддържане, развитие и допълнително усъвършенстване на ИСУН 202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условия за функциониране на ИСУН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Транснационално сътрудничество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сърчаване на взаимното обучение, с цел повишаване ефективността на политиките, подкрепяни от ЕСФ, като включва партньори от най-малко две държави-чл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Мерки за обмяна на опит и експерти, координиране на съвместни действия в отделни области на взаимодействие, обмен на информация и добри практики за прилагане на принципите на добро управ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НОГОФОНДОВО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ФИНАНСИР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обвързаност и интегрираност на мерките с цел , постигане на синергия и цялостен резултат от прилагането 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една обща политика и стратегия, съчетаваща в себе си мерки свързани с повишаване на административния капацитет на публичните институции и съдебната система, както и гарантиране на ефективността и устойчивостта на системата за управление на средствата от 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Благодаря за вниманието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165720"/>
            <a:ext cx="22334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„Европа 2020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цифрова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кретни препоръки по страни (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лементи за Обща стратегическа рамка за периода 2014-2020 (работен документ на Европейската коми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зиция на службите на Европейската комисия за подготовката на Споразумението за партньорство и програмите в България за периода 2014 – 2020 (прое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на Европейския парламент и на Съвета за определяне на общоприложими разпоредби за ЕФРР, ЕСФ, КФ, ЕЗФРСР и ЕФМДР, обхванати от Общата стратегическа рамка, и за определяне на общи разпоредби за ЕФР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фонд за регионално развитие (ЕФР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оклад на Европейската комисия до Европейския парламент и Съвета относно напредъка на България по Механизма за сътрудничество и проверка (18.07.2012 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азвитие „България 2020“ (Н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еформи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вергентна програма на Р България 2012-2015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развитие на държавната администрация до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овационна стратегия за интелигентна специ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бща стратегия за електронно управление 2011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„Цифров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и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лан за намаляване на административната регулаторна тежест з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ктуализирана стратегия за децентрализация 2006-20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продължаване на реформата на съдебната система в условията на пълноправно членство в Европейския съю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НСРР 2007 –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ОП „Административен капацитет“ 2007 -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Обща стратегическа це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492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вишаване ефективността и ефикасността на публичната администрация и съдебната система за провеждане на политики и предоставяне на услуги на гражданите и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овишаване на институционалния капацитет на публичната администрация за провеждане на политики и предоставяне на качествени и интегриран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 Мерки, свързани с провеждането на политики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процеса по разработване и провеждане на политики и интелигентно регулиране за намаляване на административната теже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на организационното развитие за ефективни административни структу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съвършенстването на политиките за развитие на човешките ресурси и въвеждане на практики и стандарти за тяхното упр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частието на гражданското общество при разработването и прилагането на поли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Председателството на Р България през 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 Мерки, свързани с предоставянето на интегрирани административни услуги, включително електронн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витие на съществуващата и изграждане на нова информационна инфраструкт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веждане на нови и подобряване на съществуващите услуги, включително тяхното интегрир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информираността на гражданите за дейността и отговорностите на държавните институции и предоставяне на публичен достъп до съответните бази дан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 : Осигуряване на качествена и независима съдебна систем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родължаване на реформата на съдебната система и повишаване на нейната ефективност и ефикас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. Институционални м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крепване на капацитета на правосъдните и правоприлаг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квалификацията на магистратите, съдебните служители и разследв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Мерки, свързани електронно правосъд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недряване на информационни системи, ориентирани към обслужването (електронно правосъд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здаван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стандарти за обучение в областта на информационните технологии, специализирани за магистрати и съдебни служ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Ирена Първанова</cp:lastModifiedBy>
  <dcterms:modified xsi:type="dcterms:W3CDTF">2012-10-16T07:09:36Z</dcterms:modified>
  <cp:revision>245</cp:revision>
  <dc:subject/>
  <dc:title>НАЦИОНАЛНА СТРАТЕГИЧЕСКА РЕФЕРЕНТНА РАМКА</dc:title>
</cp:coreProperties>
</file>